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41A-EDA2-41DE-BFC4-420A245A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134-967A-4BE8-A3A6-943F8A0C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706-B601-4A7C-8A45-6C619073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356-1821-426F-AD69-6BE0E637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DDB-3CB2-416E-8604-5CED3A48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AA9-A896-4ADF-AAC6-44FE86DE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D5A-704F-45F8-893D-35CC570F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8E0D-BE31-4835-9C17-D800AC3E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6B6-DC8A-4769-9759-9B6F69D6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037-44DA-4EBA-86AC-C0C27794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0922-EED7-4A6B-8C30-A9B572BF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1F9-C256-40A7-AF8C-AF62F709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6200000">
            <a:off x="-3086640" y="3086640"/>
            <a:ext cx="6858000" cy="68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41720" y="5805360"/>
            <a:ext cx="650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2195280" y="5516280"/>
            <a:ext cx="4321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39960" indent="0"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60" indent="-39960">
              <a:spcAft>
                <a:spcPts val="437"/>
              </a:spcAft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9960" indent="-39960">
              <a:spcAft>
                <a:spcPts val="437"/>
              </a:spcAft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60" indent="-39960">
              <a:spcAft>
                <a:spcPts val="437"/>
              </a:spcAft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9960" indent="-39960">
              <a:spcAft>
                <a:spcPts val="437"/>
              </a:spcAft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65360"/>
            <a:ext cx="9144000" cy="111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95640" y="342864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4072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5118" t="0" r="0" b="0"/>
          <a:stretch/>
        </p:blipFill>
        <p:spPr>
          <a:xfrm>
            <a:off x="0" y="0"/>
            <a:ext cx="2133720" cy="164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33520"/>
            <a:ext cx="1333440" cy="632448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28040" y="6524640"/>
            <a:ext cx="615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032E-155B-419A-A3DD-1D64ECA60CF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65628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3440" y="0"/>
            <a:ext cx="7810560" cy="1025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5123" t="0" r="0" b="0"/>
          <a:stretch/>
        </p:blipFill>
        <p:spPr>
          <a:xfrm>
            <a:off x="0" y="0"/>
            <a:ext cx="1332000" cy="102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16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BMG HR, Mch G, P. Gschwend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7DAF-A80F-4D85-9E34-4AF005D8E355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0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7478280" y="14144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42b"/>
                </a:solidFill>
                <a:latin typeface="Minion"/>
                <a:ea typeface="文鼎中黑"/>
              </a:rPr>
              <a:t>Let’s enterprise again! Go!Go!G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002040"/>
            <a:ext cx="1803240" cy="1684440"/>
          </a:xfrm>
          <a:prstGeom prst="ellipse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992160"/>
            <a:ext cx="8137440" cy="64260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: The LQA is planned as a part of the feedback-tools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7640" y="3070080"/>
            <a:ext cx="1619280" cy="1366920"/>
          </a:xfrm>
          <a:prstGeom prst="rightArrow">
            <a:avLst>
              <a:gd name="adj1" fmla="val 50000"/>
              <a:gd name="adj2" fmla="val 29615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eer-Feed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(plan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4797360"/>
            <a:ext cx="1366560" cy="1440000"/>
          </a:xfrm>
          <a:prstGeom prst="upArrow">
            <a:avLst>
              <a:gd name="adj1" fmla="val 50000"/>
              <a:gd name="adj2" fmla="val 26344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PF </a:t>
            </a:r>
            <a:br>
              <a:rPr sz="18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(Leadership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Performance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Feedback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1440" y="1413000"/>
            <a:ext cx="1366920" cy="1439640"/>
          </a:xfrm>
          <a:prstGeom prst="downArrow">
            <a:avLst>
              <a:gd name="adj1" fmla="val 50000"/>
              <a:gd name="adj2" fmla="val 2633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EF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Q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(pil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0320" y="3373560"/>
            <a:ext cx="163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Pers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who receiv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3068640"/>
            <a:ext cx="1296720" cy="1152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99320" y="3324240"/>
            <a:ext cx="787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3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(not as a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 standar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981000"/>
            <a:ext cx="8137440" cy="258588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Evaluation of results, capabilities and suitability 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Preparation of managers/employees for EFA-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Survey of the department‘s stren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 of individual Action Plans to foster the individual development and to strenghthen the department‘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573360"/>
            <a:ext cx="8137440" cy="7855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Target-gro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/employees until 2 levels below Head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665600"/>
            <a:ext cx="8137440" cy="10598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t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ssessment about results, capabilities and suitability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2668680"/>
            <a:ext cx="8137440" cy="120276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ce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Yearly assessment (based on SLF – pending further no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 assess their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07920"/>
            <a:ext cx="8137440" cy="18943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ata on Job-Person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ction plans for personal development together with personal HR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(e.g. Coaching, Qualification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980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44360" y="4624560"/>
            <a:ext cx="14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valuation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MG PHE 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0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" y="4627440"/>
            <a:ext cx="160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irst, volun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 March 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7480" y="4826160"/>
            <a:ext cx="144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edback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 man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42760" y="4675320"/>
            <a:ext cx="20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efini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mprovement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max.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0872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74080" y="4675320"/>
            <a:ext cx="171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pe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of Assess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6 months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" y="404640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00cc"/>
                </a:solidFill>
                <a:latin typeface="Minion"/>
              </a:rPr>
              <a:t>Pilot at BMG PHE RD –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15979" r="0" b="0"/>
          <a:stretch/>
        </p:blipFill>
        <p:spPr>
          <a:xfrm>
            <a:off x="468360" y="1978200"/>
            <a:ext cx="7591320" cy="4330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998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results are evaluated regarding the categories financials, employees, customer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65276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1/2) – Leadershi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396720" y="-819000"/>
            <a:ext cx="99374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396720" y="1628640"/>
            <a:ext cx="14396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396720" y="6858000"/>
            <a:ext cx="993744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0360" y="1557360"/>
            <a:ext cx="2160360" cy="61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620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results are evaluated regarding the capabilities Drive, Focus, Impact,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34136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Leadershi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-38736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15051" r="0" b="0"/>
          <a:stretch/>
        </p:blipFill>
        <p:spPr>
          <a:xfrm>
            <a:off x="1403280" y="1628640"/>
            <a:ext cx="7489800" cy="4683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32000" y="260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evaluation regarding the managers suitability is a main issue in the L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9810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Manager´s Sui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-396720" y="-819000"/>
            <a:ext cx="9990000" cy="8448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-396720" y="-819000"/>
            <a:ext cx="99374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396720" y="1413000"/>
            <a:ext cx="1584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396720" y="6381720"/>
            <a:ext cx="99374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80360" y="1341360"/>
            <a:ext cx="216036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4365720"/>
            <a:ext cx="5761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5493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measures are taken as consequence of the Leadership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-45864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15051" r="0" b="0"/>
          <a:stretch/>
        </p:blipFill>
        <p:spPr>
          <a:xfrm>
            <a:off x="466560" y="1698480"/>
            <a:ext cx="7490160" cy="4683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68360" y="711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evaluation regarding the managers suitability is a main issue in the L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2924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Manager´s Sui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8:43:04Z</dcterms:created>
  <dc:creator>knectahz</dc:creator>
  <dc:description/>
  <dc:language>en-US</dc:language>
  <cp:lastModifiedBy>Siegfried Bocionek</cp:lastModifiedBy>
  <dcterms:modified xsi:type="dcterms:W3CDTF">2006-03-20T08:06:34Z</dcterms:modified>
  <cp:revision>11</cp:revision>
  <dc:subject/>
  <dc:title>Agenda</dc:title>
</cp:coreProperties>
</file>